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CC8-9A61-4A79-8CE2-31E85580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784-E422-4918-9A9C-846677FE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5F2-5186-4F2C-BE49-6B877BE7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842-6180-4CB4-8DF3-01FF143D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DA0D-9D4B-41AF-94CC-8D5C7D3E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AAF4-6489-4CF3-8C5B-F742C253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6E82-6B0B-4BAD-AD36-49D1CF5C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00B0-DA0C-4C05-9BB2-1AB922E4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663C-08DF-4A2D-BF1F-983818CC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D6CF-B78D-43A6-8640-3AA57CF9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4580-99A1-407E-B6B1-E1B05698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4FB-14D8-4212-B0F3-71C6929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6646-72F4-4D94-A9C9-BC4886F5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D06D-04A9-4819-AFCE-6F6DBB4E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E71F-120B-4470-BDF4-68B82491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3CFC-C6B0-48AA-A12C-32CB9F0A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22C5-EE97-457B-9C99-BFE7BA73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03A-FCD6-4FBF-AF61-DFF0C827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CFB-47D0-4E8C-82E5-CB8C0033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296-EB6E-478D-AA07-786F4989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B35-8735-4E16-B678-BB32FAA7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2A1-F2DB-4B8E-855E-54B260B8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92B-D861-47DC-B62E-F9B70132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8C7-29FA-49E7-876D-0542EACE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5806-1421-494D-9EA5-70407484864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96C5-ED32-4604-A196-B61119726CE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дминистрация Красновского сельского поселения Каменского райо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ПРОЕКТ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БЮДЖЕТА КРАСНОВСКОГО СЕЛЬСКОГО ПОСЕЛЕНИЯ КАМЕНСКОГО РАЙОНА НА 2018-2020 ГОДЫ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Динамика расходов проекта бюджета Красновского сельского поселения Каменского райо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76200" y="1816200"/>
          <a:ext cx="659160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816200"/>
                    <a:ext cx="65916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4456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Запланированный объем расходов проекта бюджета Красновского сельского поселения Каменского района в 2018 году составил 13053,1 тыс.рублей, из них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58920" y="2239920"/>
          <a:ext cx="8785080" cy="329256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674,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– 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73,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 – 147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ациональна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экономика– 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946,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Жилищно-коммунальное хозяйство – 1261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храна окружающей среды – 30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ультура, кинематография -3552,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труктура расходов проекта бюджета Красновского сельского поселения Каменского района в 2018 год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907920"/>
          <a:ext cx="8286840" cy="664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286840" cy="664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Запланированные расходы проекта бюджета Красновского сельского поселения Каменского района на 2018 год и на плановый период 2019 и 2020 годов в рамках муниципальных програм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4280" y="1742760"/>
            <a:ext cx="785196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Динамика расходов бюджета Красновского  сельского поселения Каменского района в программном вид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81160" y="2317680"/>
          <a:ext cx="60976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2317680"/>
                    <a:ext cx="60976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18 год 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часть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1280" y="1916280"/>
          <a:ext cx="8353440" cy="3409920"/>
        </p:xfrm>
        <a:graphic>
          <a:graphicData uri="http://schemas.openxmlformats.org/drawingml/2006/table">
            <a:tbl>
              <a:tblPr/>
              <a:tblGrid>
                <a:gridCol w="5940360"/>
                <a:gridCol w="2413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беспечение общественного порядка и противодействие преступност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Участие в предупреждении и ликвидации последствий чрезвычайных ситуаций в границах поселения; обеспечение пожарной безопасности и безопасности людей на водных объектах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5,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часть 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907920"/>
          <a:ext cx="8229600" cy="4351320"/>
        </p:xfrm>
        <a:graphic>
          <a:graphicData uri="http://schemas.openxmlformats.org/drawingml/2006/table">
            <a:tbl>
              <a:tblPr/>
              <a:tblGrid>
                <a:gridCol w="5853240"/>
                <a:gridCol w="2376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храна окружающей среды и рациональное природопользова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звитие физической культур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нергоэффективность и развитие энергетики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Муниципальная политик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Газификация территории посе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лагоустройство территории Красновского сельского посе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роект бюджета Красновского сельского поселения Каменского района на 2018год направлен на решение социальных и экономических задач поселения. Приоритетом является обеспечение населения бюджетными услугами отраслей социальной сферы. На финансирование отраслей социальной сферы, в 2018 году планируется направить 3552,6тыс.рублей или 25,7% всех расходов бюджет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80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Структура расходов отраслей социальной сфер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98480" y="2031840"/>
          <a:ext cx="785196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2031840"/>
                    <a:ext cx="785196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Динамика расходов проекта бюджета Красновского сельского поселения Каменского района на культуру, кинематограф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58920" y="2205000"/>
          <a:ext cx="66009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66009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Культура и кинематография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часть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1197000"/>
          <a:ext cx="6769080" cy="4611600"/>
        </p:xfrm>
        <a:graphic>
          <a:graphicData uri="http://schemas.openxmlformats.org/drawingml/2006/table">
            <a:tbl>
              <a:tblPr/>
              <a:tblGrid>
                <a:gridCol w="2057400"/>
                <a:gridCol w="2624040"/>
                <a:gridCol w="2087640"/>
              </a:tblGrid>
              <a:tr h="46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бщий объем запланированных расходов бюджета на культуру, кинематографию в 2018году составил 3552,6 тыс.рублей 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сходы запланированные на финансовое обеспечение выполнение муниципального задания бюджетными учреждениями культуры в 2018 году составили 3552,6 тыс.рублей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сходы запланированные на проведение культурно-массовых мероприятий, праздников на территории Каменского района в 2018 году составили 15,0 тыс.рублей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часть 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484360" y="1052640"/>
          <a:ext cx="3686040" cy="4495680"/>
        </p:xfrm>
        <a:graphic>
          <a:graphicData uri="http://schemas.openxmlformats.org/drawingml/2006/table">
            <a:tbl>
              <a:tblPr/>
              <a:tblGrid>
                <a:gridCol w="36860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сходы запланированные на обеспечение антитеррористической защищённости и пожарной безопасности в 2018 году составили 153,0 тыс.рублей 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1628640"/>
            <a:ext cx="3097440" cy="266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ы формирования проекта бюджета Красновского сельского поселения Каменского района на 2018-2020 го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260280"/>
            <a:ext cx="3024000" cy="13669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Основные направления бюджетной и налоговой политики Красновского сельского поселения на 2018-2020 год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3645000"/>
            <a:ext cx="1873080" cy="23050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Прогноз социально-экономического развития Красновского сельского поселения на 2018-2020 год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6720" y="3645000"/>
            <a:ext cx="1800360" cy="237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Муниципальные программы Красновского сельского посел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4076640"/>
            <a:ext cx="1295640" cy="79236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1557360"/>
            <a:ext cx="1009800" cy="129528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459760" y="3548880"/>
            <a:ext cx="806760" cy="1430280"/>
          </a:xfrm>
          <a:custGeom>
            <a:avLst/>
            <a:gdLst>
              <a:gd name="textAreaLeft" fmla="*/ 108000 w 806760"/>
              <a:gd name="textAreaRight" fmla="*/ 698760 w 806760"/>
              <a:gd name="textAreaTop" fmla="*/ 250200 h 1430280"/>
              <a:gd name="textAreaBottom" fmla="*/ 1037160 h 14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Динамика расходов проекта бюджета Красновского сельского поселения Каменского района на физическую культуру и спорт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9480" y="2286000"/>
          <a:ext cx="4308480" cy="34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43084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16000" y="22050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В 2018 году в рамках муниципальной программы "Развитие физической культуры и спорта" планируется провести 20 спортивных мероприят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роект бюджета Красновского сельского поселения Каменского района на 2018год и на плановый период 2019 и 2020 годов сформирован  на основе  основных направлений бюджетной и налоговой  политики Красновского сельского поселения на 2018-2020 годы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, с учетом прогноза социально-экономического развития Красновского сельского поселения на 2018-2020 годы, основных мероприятий муниципальных программ Красновского сельского поселения, направленных на достижение целей и задач социально-экономического развития поселения. Главной идеологией бюджетной политики традиционно остается улучшение условий жизни и самочувствия населения Красновского сельского поселения, выполнение социальных обязательств перед гражданами, предоставление качественных муниципальных услуг на основе целей и задач, определенных указами Президента Российской Федерации и Стратегией социально-экономического развития Красновского сельского поселения на период до 2020 года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16360" y="4797360"/>
            <a:ext cx="3384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роект бюджета Красновского сельского поселения Каменского района на 2018-2020 годы направлен на выполнение следующих задач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916280"/>
            <a:ext cx="8642520" cy="86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еспечение устойчивости и сбалансированности бюджетной системы 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лях гарантированного исполнения действующих и принимаемы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ходных обязательст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997360"/>
            <a:ext cx="8713800" cy="8632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вышение эффективности бюджетной политики, в том числе за счет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оста эффективности бюджетных расходов, обеспечения адресност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циальной помощ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94172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вышение роли бюджетной политики для поддержки экономическ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ост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076640"/>
            <a:ext cx="8713800" cy="6476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ответствие финансовых возможностей Красновского поселения ключевы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правлениям развит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80536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вышение прозрачности и открытости бюджетного процесс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сновные параметры проекта бюджета Красновского сельского поселения Каменского района на 2018 год и на плановый период 2019- 2020 г.г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1773360"/>
          <a:ext cx="8229600" cy="4903560"/>
        </p:xfrm>
        <a:graphic>
          <a:graphicData uri="http://schemas.openxmlformats.org/drawingml/2006/table">
            <a:tbl>
              <a:tblPr/>
              <a:tblGrid>
                <a:gridCol w="2746440"/>
                <a:gridCol w="1655640"/>
                <a:gridCol w="177012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18 год (тыс.рублей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19 год (тыс.рублей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20 год (тыс.рублей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оходы бюджета, все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3574,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017,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648,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з них: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807,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346,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444,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767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670,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203,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асходы бюджета, все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3814,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234,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870,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фицит (-), профицит(+) бюджет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40,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17,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22,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Динамика доходов проекта бюджета Красновского сельского поселения Каменского райо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2565360"/>
          <a:ext cx="806472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806472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048040" y="1635120"/>
          <a:ext cx="611496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48040" y="1635120"/>
                    <a:ext cx="61149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Динамика налоговых и неналоговых доходов проекта бюджета Красновского сельского поселения Каменского райо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58920" y="1844640"/>
          <a:ext cx="659124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4640"/>
                    <a:ext cx="659124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Запланированный объем налоговых и неналоговых доходов проекта бюджета Красновского сельского поселения Каменского района в 2018 году составил 4807,1 тыс.рублей из них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52400" y="1838160"/>
          <a:ext cx="7773840" cy="2662200"/>
        </p:xfrm>
        <a:graphic>
          <a:graphicData uri="http://schemas.openxmlformats.org/drawingml/2006/table">
            <a:tbl>
              <a:tblPr/>
              <a:tblGrid>
                <a:gridCol w="7773840"/>
              </a:tblGrid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– 781,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– 355,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алоги на имущество – 3656,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Государственная пошлин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- 13,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Штрафы, санкции, возмещение ущерба– 0,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труктура налоговых доходов проекта бюджета Красновского сельского поселения Каменского района в 2018 год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4600" y="1684440"/>
          <a:ext cx="8621640" cy="48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684440"/>
                    <a:ext cx="862164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Динамика безвозмездных поступлений проекта бюджета Красновского сельского поселения Каменского райо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76200" y="1816200"/>
          <a:ext cx="659160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816200"/>
                    <a:ext cx="65916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1:33:22Z</dcterms:created>
  <dc:creator>1</dc:creator>
  <dc:description/>
  <dc:language>en-US</dc:language>
  <cp:lastModifiedBy>1</cp:lastModifiedBy>
  <dcterms:modified xsi:type="dcterms:W3CDTF">2018-02-22T10:52:19Z</dcterms:modified>
  <cp:revision>284</cp:revision>
  <dc:subject/>
  <dc:title>Финансовое управление Администрации Каменского района</dc:title>
</cp:coreProperties>
</file>