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8E83-EAD2-4202-9B07-C367AEAD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B2A3-5A0D-49EA-9167-1D2209EF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FE7E-C5F2-40B0-8B72-AA27827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A9ED-1EA1-4577-9B30-89715954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54F4-8D63-497B-825F-32677A15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F893-69A5-417F-8372-CF6AD50C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06B1-3E96-43CE-A693-3CFC4C10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E7D3-4F33-447F-8857-EEF2726C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B62-448E-4A93-8C4F-836472F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41FC-6966-4D43-9EC9-83FEA9A8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0500-1303-4115-BFC1-ED313C9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5EE1-CAF2-408C-97DC-D5CAC8E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992F-07E5-4F6C-8D8A-48A8374A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AC55-8DB8-473C-94CB-D340A75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817C-DCA8-4D4E-8D32-8CA84867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AA90-1A8E-441A-A719-3E8D831D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DAB1-78BD-46EE-9DE1-933124B2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2B7F-51F3-4908-9441-10FFC3DE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7B22-18B3-4948-A749-B38A67D6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4CF8-E78B-4BAF-92F1-879A5AD6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F926-A42B-44E6-9F72-B4BC6CE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5221-75AD-4D19-8941-6308640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1A40-927C-4142-9101-0DF6F5F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B655-A649-4CAE-A5B7-5893661B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70D-FAE9-4241-8767-57BD8E2D49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540-C21F-4126-BF11-8BF5E82DFE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Администрация Красновского сельского поселения Каменского райо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ЮДЖЕТ КРАСНОВСКОГО СЕЛЬСКОГО ПОСЕЛЕНИЯ КАМЕНСКОГО РАЙОНА НА 2018-2020 ГОД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Динамика расходов бюджета Красновского сельского поселения Каменского райо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76200" y="1816200"/>
          <a:ext cx="659160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816200"/>
                    <a:ext cx="65916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445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Запланированный объем расходов бюджета Красновского сельского поселения Каменского района в 2018 году составил 13053,1 тыс.рублей, из них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920" y="2239920"/>
          <a:ext cx="8785080" cy="329256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7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3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 – 14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экономика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4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илищно-коммунальное хозяйство – 126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храна окружающей среды – 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, кинематография -355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Структура расходов бюджета Красновского сельского поселения Каменского района в 2018 году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07920"/>
          <a:ext cx="8286840" cy="664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286840" cy="664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Запланированные расходы бюджета Красновского сельского поселения Каменского района на 2018 год и на плановый период 2019 и 2020 годов в рамках муниципальных программ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4280" y="1743120"/>
            <a:ext cx="785196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инамика расходов бюджета Красновского  сельского поселения Каменского района в программном вид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1160" y="2317680"/>
          <a:ext cx="609768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2317680"/>
                    <a:ext cx="60976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18 год 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                                                                      часть 1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11280" y="1916280"/>
          <a:ext cx="8353440" cy="3409920"/>
        </p:xfrm>
        <a:graphic>
          <a:graphicData uri="http://schemas.openxmlformats.org/drawingml/2006/table">
            <a:tbl>
              <a:tblPr/>
              <a:tblGrid>
                <a:gridCol w="5940360"/>
                <a:gridCol w="2413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печение общественного порядка и противодействие преступ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стие в предупреждении и ликвидации последствий чрезвычайных ситуаций в границах поселения;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часть 2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9640" y="907920"/>
          <a:ext cx="8229600" cy="4351320"/>
        </p:xfrm>
        <a:graphic>
          <a:graphicData uri="http://schemas.openxmlformats.org/drawingml/2006/table">
            <a:tbl>
              <a:tblPr/>
              <a:tblGrid>
                <a:gridCol w="5853240"/>
                <a:gridCol w="2376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храна окружающей среды и рациональное природо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тие физической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нергоэффективность и развитие энергети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ая полит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ификация территории посе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агоустройство территории Красновского сельского посе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Бюджет Красновского сельского поселения Каменского района на 2018год направлен на решение социальных и экономических задач поселения. Приоритетом является обеспечение населения бюджетными услугами отраслей социальной сферы. На финансирование отраслей социальной сферы, в 2018 году планируется направить 3552,6тыс.рублей или 25,7% всех расходов бюдже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сходов отраслей социальной сфе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98480" y="2031840"/>
          <a:ext cx="78519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31840"/>
                    <a:ext cx="78519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Динамика расходов бюджета Красновского сельского поселения Каменского района на культуру, кинематографию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58920" y="2205000"/>
          <a:ext cx="66009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66009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Культура и кинематография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часть 1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197000"/>
          <a:ext cx="6769080" cy="4611600"/>
        </p:xfrm>
        <a:graphic>
          <a:graphicData uri="http://schemas.openxmlformats.org/drawingml/2006/table">
            <a:tbl>
              <a:tblPr/>
              <a:tblGrid>
                <a:gridCol w="2057400"/>
                <a:gridCol w="2624040"/>
                <a:gridCol w="2087640"/>
              </a:tblGrid>
              <a:tr h="46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ий объем запланированных расходов бюджета на культуру, кинематографию в 2018году составил 3552,6 тыс.рубл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 запланированные на финансовое обеспечение выполнение муниципального задания бюджетными учреждениями культуры в 2018 году составили 3552,6 тыс.рубл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 запланированные на проведение культурно-массовых мероприятий, праздников на территории Каменского района в 2018 году составили 15,0 тыс.рубле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часть 2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84360" y="1052640"/>
          <a:ext cx="3686040" cy="4495680"/>
        </p:xfrm>
        <a:graphic>
          <a:graphicData uri="http://schemas.openxmlformats.org/drawingml/2006/table">
            <a:tbl>
              <a:tblPr/>
              <a:tblGrid>
                <a:gridCol w="36860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 запланированные на обеспечение антитеррористической защищённости и пожарной безопасности в 2018 году составили 153,0 тыс.рубле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1628640"/>
            <a:ext cx="3097440" cy="266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Красновского сельского поселения Каменского района на 2018-2020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260280"/>
            <a:ext cx="3024000" cy="136692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ые направления бюджетной и налоговой политики Красновского сельского поселения на 2018-2020 го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645000"/>
            <a:ext cx="1873080" cy="230508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гноз социально-экономического развития Красновского сельского поселения на 2018-2020 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3645000"/>
            <a:ext cx="1800360" cy="237636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ниципальные программы Краснов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4076640"/>
            <a:ext cx="1295640" cy="79236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557360"/>
            <a:ext cx="1009800" cy="1295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459760" y="354888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Динамика расходов бюджета Красновского сельского поселения Каменского района на физическую культуру и спор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9480" y="2286000"/>
          <a:ext cx="430848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430848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2018 году в рамках муниципальной программы "Развитие физической культуры и спорта" планируется провести 20 спортивных мероприят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Бюджет Красновского сельского поселения Каменского района на 2018год и на плановый период 2019 и 2020 годов сформирован  на основе  основных направлений бюджетной и налоговой  политики Красновского сельского поселения на 2018-2020 годы</a:t>
            </a: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, с учетом прогноза социально-экономического развития Красновского сельского поселения на 2018-2020 годы, основных мероприятий муниципальных программ Красновского сельского поселения, направленных на достижение целей и задач социально-экономического развития поселения. Главной идеологией бюджетной политики традиционно остается улучшение условий жизни и самочувствия населения Красновского сельского поселения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Красновского сельского поселения на период до 2020 года.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16360" y="4797360"/>
            <a:ext cx="3384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Бюджет Красновского сельского поселения Каменского района на 2018-2020 годы направлен на выполнение следующих задач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вышение эффективности бюджетной политики, в том числе за сч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ста эффективности бюджетных расходов, обеспечения адрес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циальной пом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вышение роли бюджетной политики для поддержки 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ответствие финансовых возможностей Красновского поселения ключе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правлениям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вышение прозрачности и открытости бюдже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Основные параметры бюджета Красновского сельского поселения Каменского района на 2018 год и на плановый период 2019- 2020 г.г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773360"/>
          <a:ext cx="8229600" cy="4903560"/>
        </p:xfrm>
        <a:graphic>
          <a:graphicData uri="http://schemas.openxmlformats.org/drawingml/2006/table">
            <a:tbl>
              <a:tblPr/>
              <a:tblGrid>
                <a:gridCol w="2746440"/>
                <a:gridCol w="1655640"/>
                <a:gridCol w="177012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 (тыс.рубл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 год (тыс.рубл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 (тыс.рубл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57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4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0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4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4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6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7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0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8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23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7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7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Динамика доходов бюджета Красновского сельского поселения Каменского райо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2565360"/>
          <a:ext cx="806472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806472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048040" y="1635120"/>
          <a:ext cx="6114960" cy="14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040" y="1635120"/>
                    <a:ext cx="611496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Динамика налоговых и неналоговых доходов бюджета Красновского сельского поселения Каменского райо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58920" y="1844640"/>
          <a:ext cx="6591240" cy="40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659124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Запланированный объем налоговых и неналоговых доходов бюджета Красновского сельского поселения Каменского района в 2018 году составил 4807,1 тыс.рублей из них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2400" y="1838160"/>
          <a:ext cx="7773840" cy="2658960"/>
        </p:xfrm>
        <a:graphic>
          <a:graphicData uri="http://schemas.openxmlformats.org/drawingml/2006/table">
            <a:tbl>
              <a:tblPr/>
              <a:tblGrid>
                <a:gridCol w="7773840"/>
              </a:tblGrid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– 78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– 35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 на имущество – 3656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сударственная пошлин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13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трафы, санкции, возмещение ущерба– 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Структура налоговых доходов бюджета Красновского сельского поселения Каменского района в 2018 году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1684440"/>
          <a:ext cx="8621640" cy="48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684440"/>
                    <a:ext cx="862164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Динамика безвозмездных поступлений бюджета Красновского сельского поселения Каменского райо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76200" y="1816200"/>
          <a:ext cx="659160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816200"/>
                    <a:ext cx="65916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1</cp:lastModifiedBy>
  <dcterms:modified xsi:type="dcterms:W3CDTF">2018-02-06T09:21:28Z</dcterms:modified>
  <cp:revision>269</cp:revision>
  <dc:subject/>
  <dc:title>Финансовое управление Администрации Каменского района</dc:title>
</cp:coreProperties>
</file>