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B8B9-5753-430B-AE0B-8ADBC30126B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00F9-B301-40D6-922B-91812457035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300-D903-459A-A682-92CC2B77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9B5-A40B-4C65-A488-9C2C21C1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6F4-BBBD-4E01-B4E8-64F031F7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2B6-1986-46AF-A2F0-7035DBB1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C013-E48F-4A68-A2DC-A46143A1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7957-7922-4614-821E-3A55DDD8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2776-FE36-470E-8471-7E289F18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9E93-81AD-4D9E-A66F-E6E9E0B5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55DF-3806-4B2B-A795-BA7B1C0E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9E2D-0463-4ABE-AD1B-82C86614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4FE8-1BCE-47CF-97D5-CA3B6E53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36B-AB5B-4D16-82E8-FBBBBF1A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E990-8E41-4DD1-A269-BF03349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3A44-1187-4E7E-B7D4-318D596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C6C9-4A2C-4CC7-98A6-FC0AA9E3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648F-FC82-43DF-88FC-5D04CFCF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DE5E-41C6-466E-823E-FEF5ADA4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B3735-0E1C-4692-869C-5849F177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A0BA-DD41-4193-AB3E-DC0CA712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1265F-ACCA-4858-9C99-232F53DE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4313-0C72-4B47-97E6-4833CF72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C3C6-377C-4378-8EE7-B0E789F1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9CC-06F9-4CAE-8E35-46C5FC27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5B8F-32BC-4B8D-9515-C6BEA9B2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674E-9A5B-4931-8237-E9878235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0C11C-4B9A-4757-8BCF-A88484FE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FB0D0-6D78-4864-B56D-1241CC0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2F8A-F0B7-48E9-8F67-EA54DB7C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A218-8287-475B-A946-B8EE20A3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9B656-F050-4518-8A02-67DF459D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BF77-C423-4124-AA99-4921083C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4812-6E9C-456A-A014-EA9153DB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9892-C295-421D-B1D1-A26F8851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AB5-3341-4243-B123-694333BF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9823-91BB-4FF3-AF62-221FFA25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0907C-B544-4511-B2D1-F726F6C8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252ED-1499-44A3-82FA-32487C87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A546-A50F-4D71-A4C8-B1B5AB32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8B20E-5C98-49B3-B264-FAEBEEAE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321D5-D7D1-4C2E-BEAF-137A2A40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3E619-B180-4083-90DE-813CC16E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E6D2-982B-4D4D-9204-F2E9C942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087D-CF4C-4FB4-AAD6-DC147BDF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CE38-CF62-4DFF-BA80-07DAEB0F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E25-FBA8-4C42-A34F-FA60DB94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479DD-D8A0-4D1B-82E2-C74CFC5B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7C8B8-97C4-4629-B5BD-68F8CF8E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B703-9B26-4827-A0B8-FE3D5BE8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E355E-7451-429E-9DFA-464A84A9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ACE83-D93A-4977-B745-F74AAED2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6B0AE-218A-496B-A550-B8DD9975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845CC-5592-466C-B11F-3EDD9365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903F5-6EB3-46EA-BF5C-72090C37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84E0-CC2C-4167-A7E3-25FBC1B3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8C78-5BD8-40DF-90A9-8DB7EFEA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A0F-5D88-478C-8ED3-8CA46F52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3613F-5F53-4273-AC61-935D39BA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B02-8EEB-4D9B-9C35-A7CCE806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247-FE89-4476-B968-64598D02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8F2-A187-4EEB-AEF8-82E55E92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1D34-E703-4E25-AFAC-D890FBD900A8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387A-C668-499D-A2C1-A1CB8130357D}" type="slidenum">
              <a:rPr b="0" lang="ru-RU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3022-2D8F-42F5-A467-34A7B6C6E372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63D3-604C-4AFC-9657-02BBF534CDCE}" type="slidenum">
              <a:rPr b="0" lang="ru-RU" sz="1100" spc="-1" strike="noStrike">
                <a:solidFill>
                  <a:srgbClr val="f4e7ed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68FB-DCD4-467D-8469-A62918CEE673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1236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3020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83d68"/>
                </a:solidFill>
                <a:latin typeface="Times New Roman"/>
              </a:rPr>
              <a:t>Исполнение бюджета КРАСНОВСКОГО сельского поселения Каменского района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83d68"/>
                </a:solidFill>
                <a:latin typeface="Times New Roman"/>
              </a:rPr>
              <a:t>за 2021 год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298440" y="165240"/>
            <a:ext cx="8534520" cy="205416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3" descr=""/>
          <p:cNvPicPr/>
          <p:nvPr/>
        </p:nvPicPr>
        <p:blipFill>
          <a:blip r:embed="rId2"/>
          <a:stretch/>
        </p:blipFill>
        <p:spPr>
          <a:xfrm>
            <a:off x="217440" y="1714680"/>
            <a:ext cx="8161560" cy="46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298440" y="237960"/>
            <a:ext cx="8534520" cy="205452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3" descr=""/>
          <p:cNvPicPr/>
          <p:nvPr/>
        </p:nvPicPr>
        <p:blipFill>
          <a:blip r:embed="rId2"/>
          <a:stretch/>
        </p:blipFill>
        <p:spPr>
          <a:xfrm>
            <a:off x="291960" y="1930320"/>
            <a:ext cx="786132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98440" y="-36360"/>
            <a:ext cx="8534520" cy="2328840"/>
          </a:xfrm>
          <a:prstGeom prst="rect">
            <a:avLst/>
          </a:prstGeom>
          <a:ln w="0">
            <a:noFill/>
          </a:ln>
        </p:spPr>
      </p:pic>
      <p:pic>
        <p:nvPicPr>
          <p:cNvPr id="250" name="Object 3" descr=""/>
          <p:cNvPicPr/>
          <p:nvPr/>
        </p:nvPicPr>
        <p:blipFill>
          <a:blip r:embed="rId2"/>
          <a:stretch/>
        </p:blipFill>
        <p:spPr>
          <a:xfrm>
            <a:off x="285840" y="2127240"/>
            <a:ext cx="821520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298440" y="96840"/>
            <a:ext cx="8534520" cy="2055960"/>
          </a:xfrm>
          <a:prstGeom prst="rect">
            <a:avLst/>
          </a:prstGeom>
          <a:ln w="0">
            <a:noFill/>
          </a:ln>
        </p:spPr>
      </p:pic>
      <p:pic>
        <p:nvPicPr>
          <p:cNvPr id="252" name="Object 3" descr=""/>
          <p:cNvPicPr/>
          <p:nvPr/>
        </p:nvPicPr>
        <p:blipFill>
          <a:blip r:embed="rId2"/>
          <a:stretch/>
        </p:blipFill>
        <p:spPr>
          <a:xfrm>
            <a:off x="944640" y="1600200"/>
            <a:ext cx="75214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420840" y="165240"/>
            <a:ext cx="8388360" cy="1554120"/>
          </a:xfrm>
          <a:prstGeom prst="rect">
            <a:avLst/>
          </a:prstGeom>
          <a:ln w="0">
            <a:noFill/>
          </a:ln>
        </p:spPr>
      </p:pic>
      <p:pic>
        <p:nvPicPr>
          <p:cNvPr id="254" name="Object 3" descr=""/>
          <p:cNvPicPr/>
          <p:nvPr/>
        </p:nvPicPr>
        <p:blipFill>
          <a:blip r:embed="rId2"/>
          <a:stretch/>
        </p:blipFill>
        <p:spPr>
          <a:xfrm>
            <a:off x="291960" y="1600200"/>
            <a:ext cx="8037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298440" y="463680"/>
            <a:ext cx="8534520" cy="161424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3" descr=""/>
          <p:cNvPicPr/>
          <p:nvPr/>
        </p:nvPicPr>
        <p:blipFill>
          <a:blip r:embed="rId2"/>
          <a:stretch/>
        </p:blipFill>
        <p:spPr>
          <a:xfrm>
            <a:off x="141120" y="1930320"/>
            <a:ext cx="793440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7266240" cy="1292400"/>
          </a:xfrm>
          <a:prstGeom prst="rect">
            <a:avLst/>
          </a:prstGeom>
          <a:ln w="0">
            <a:noFill/>
          </a:ln>
        </p:spPr>
      </p:pic>
      <p:pic>
        <p:nvPicPr>
          <p:cNvPr id="258" name="Содержимое 4" descr=""/>
          <p:cNvPicPr/>
          <p:nvPr/>
        </p:nvPicPr>
        <p:blipFill>
          <a:blip r:embed="rId2"/>
          <a:stretch/>
        </p:blipFill>
        <p:spPr>
          <a:xfrm>
            <a:off x="457200" y="160956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646280"/>
          </a:xfrm>
          <a:prstGeom prst="rect">
            <a:avLst/>
          </a:prstGeom>
          <a:ln w="0">
            <a:noFill/>
          </a:ln>
        </p:spPr>
      </p:pic>
      <p:pic>
        <p:nvPicPr>
          <p:cNvPr id="260" name="Object 3" descr=""/>
          <p:cNvPicPr/>
          <p:nvPr/>
        </p:nvPicPr>
        <p:blipFill>
          <a:blip r:embed="rId2"/>
          <a:stretch/>
        </p:blipFill>
        <p:spPr>
          <a:xfrm>
            <a:off x="285840" y="1638360"/>
            <a:ext cx="83613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01760" y="701640"/>
            <a:ext cx="8351640" cy="663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8aff"/>
                </a:solidFill>
                <a:latin typeface="Times New Roman"/>
                <a:ea typeface="Times New Roman"/>
              </a:rPr>
              <a:t>Основные параметры отчета об исполнении бюджета КРАСНОВСКОГО  сельского поселения Каменского района за 2021 год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руб.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     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именование                                      Исполнен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Доходы, всего                                    24626,8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 них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Налоговые и неналоговые доходы         </a:t>
            </a: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3642,8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Безвозмездные поступления                  20984,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Расходы, всего                                           24938,3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Дефицит (-), профицит (+)                     -311,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Источники финансирования дефицита    - 311,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5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29600" cy="165924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4" descr=""/>
          <p:cNvPicPr/>
          <p:nvPr/>
        </p:nvPicPr>
        <p:blipFill>
          <a:blip r:embed="rId2"/>
          <a:stretch/>
        </p:blipFill>
        <p:spPr>
          <a:xfrm>
            <a:off x="765000" y="1600200"/>
            <a:ext cx="76140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38120" y="225360"/>
            <a:ext cx="8352000" cy="1695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68360" y="2357280"/>
            <a:ext cx="82296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c66bb"/>
                </a:solidFill>
                <a:latin typeface="Times New Roman"/>
              </a:rPr>
              <a:t>Налог на доходы физических лиц     726,9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c66bb"/>
                </a:solidFill>
                <a:latin typeface="Times New Roman"/>
              </a:rPr>
              <a:t>Налоги на совокупный доход               165,6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c66bb"/>
                </a:solidFill>
                <a:latin typeface="Times New Roman"/>
              </a:rPr>
              <a:t>Налоги на имущество                        2574,6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c66bb"/>
                </a:solidFill>
                <a:latin typeface="Times New Roman"/>
              </a:rPr>
              <a:t>Государственная пошлина                     9,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c66bb"/>
                </a:solidFill>
                <a:latin typeface="Times New Roman"/>
              </a:rPr>
              <a:t>Доходы от использован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c66bb"/>
                </a:solidFill>
                <a:latin typeface="Times New Roman"/>
              </a:rPr>
              <a:t>имущества, находящегос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c66bb"/>
                </a:solidFill>
                <a:latin typeface="Times New Roman"/>
              </a:rPr>
              <a:t>в государственной 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c66b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c66bb"/>
                </a:solidFill>
                <a:latin typeface="Times New Roman"/>
              </a:rPr>
              <a:t>муниципальной собственности      65,3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c66bb"/>
                </a:solidFill>
                <a:latin typeface="Times New Roman"/>
              </a:rPr>
              <a:t>Штрафы, санкции, возмещение ущерба   101,3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5" descr=""/>
          <p:cNvPicPr/>
          <p:nvPr/>
        </p:nvPicPr>
        <p:blipFill>
          <a:blip r:embed="rId1"/>
          <a:stretch/>
        </p:blipFill>
        <p:spPr>
          <a:xfrm>
            <a:off x="365040" y="225360"/>
            <a:ext cx="8352000" cy="1700280"/>
          </a:xfrm>
          <a:prstGeom prst="rect">
            <a:avLst/>
          </a:prstGeom>
          <a:ln w="0">
            <a:noFill/>
          </a:ln>
        </p:spPr>
      </p:pic>
      <p:pic>
        <p:nvPicPr>
          <p:cNvPr id="236" name="Диаграмма 6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536400" y="225360"/>
            <a:ext cx="8156880" cy="17686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4" descr=""/>
          <p:cNvPicPr/>
          <p:nvPr/>
        </p:nvPicPr>
        <p:blipFill>
          <a:blip r:embed="rId2"/>
          <a:stretch/>
        </p:blipFill>
        <p:spPr>
          <a:xfrm>
            <a:off x="539640" y="1866960"/>
            <a:ext cx="82533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512640" y="549360"/>
            <a:ext cx="8363160" cy="1315800"/>
          </a:xfrm>
          <a:prstGeom prst="rect">
            <a:avLst/>
          </a:prstGeom>
          <a:ln w="0">
            <a:noFill/>
          </a:ln>
        </p:spPr>
      </p:pic>
      <p:pic>
        <p:nvPicPr>
          <p:cNvPr id="240" name="Object 4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9944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334800" y="255600"/>
            <a:ext cx="8998200" cy="1755720"/>
          </a:xfrm>
          <a:prstGeom prst="rect">
            <a:avLst/>
          </a:prstGeom>
          <a:ln w="0">
            <a:noFill/>
          </a:ln>
        </p:spPr>
      </p:pic>
      <p:pic>
        <p:nvPicPr>
          <p:cNvPr id="242" name="Object 4" descr=""/>
          <p:cNvPicPr/>
          <p:nvPr/>
        </p:nvPicPr>
        <p:blipFill>
          <a:blip r:embed="rId2"/>
          <a:stretch/>
        </p:blipFill>
        <p:spPr>
          <a:xfrm>
            <a:off x="642960" y="1785960"/>
            <a:ext cx="692928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384120" y="249120"/>
            <a:ext cx="8534520" cy="141444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4" descr=""/>
          <p:cNvPicPr/>
          <p:nvPr/>
        </p:nvPicPr>
        <p:blipFill>
          <a:blip r:embed="rId2"/>
          <a:stretch/>
        </p:blipFill>
        <p:spPr>
          <a:xfrm>
            <a:off x="642960" y="1631880"/>
            <a:ext cx="7858080" cy="446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Пользователь</cp:lastModifiedBy>
  <dcterms:modified xsi:type="dcterms:W3CDTF">2023-01-26T07:23:13Z</dcterms:modified>
  <cp:revision>191</cp:revision>
  <dc:subject/>
  <dc:title>Слайд 1</dc:title>
</cp:coreProperties>
</file>