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chimes.wav" ContentType="audio/x-wav"/>
  <Override PartName="/ppt/media/image7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6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BE9-724E-48B8-A1BE-F656844E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C6C-4748-435F-BFDE-93302E5E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DB0-EE19-4A27-92CE-4FF1212B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292-4657-41F4-B27C-DC4AD96C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0B213-8ACF-46A2-8750-96FD6EE3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2D3EF-73B7-4877-8A56-8E782945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06164-6C88-4D11-8353-AADF5666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6AFFD-E8C5-4B69-A6AF-0424882F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50984-B5A0-442B-ACB1-1B23D65E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92D6F-AFB1-4316-895C-AA9C20D8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6E4CB-7FFC-4611-87B8-D609DCA8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8F3-773E-4D0A-94A8-2E181447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E3589-AA57-4C08-9F9C-50C41B3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B63DF-3F1A-4CF4-BA61-47572F09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AE490-360B-4736-AA93-E8510CBB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B6AE9-351E-4260-837D-E56ED282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0E5E9-FB75-4207-94E7-33B918B4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DB1E-DE2B-4ACA-9CD0-E73DFD3B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52C68-D78A-4DA1-9CDF-7D82C674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2ABD-4AEA-4B52-A890-E956E1FB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C544-1291-4AB9-AFB6-BB9C9ABE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C2B40-4C8B-4D44-9999-E7F41127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96F-D572-4E3C-88BE-AFEC489D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C2B1-E4FF-459E-9DCD-F3E26DD2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6EAFA-5BA6-4BF3-9B83-ED30E640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22E01-6302-4FFC-B238-66F78684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D73B9-75C2-4A0F-9E4B-5FBC4970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67254-B15E-4437-A5D0-DAE4B235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FFA9-6CA7-45CE-B3A3-7D31A257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880C-5970-4DA3-B4BF-5562371A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F6E1F-77D7-437F-81B9-E082C65A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D0A16-05C5-4668-897A-566F1E36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CEF1E-4AA1-4B4A-AFD6-8EA28996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0A2-375B-441A-89B7-9EF20BFE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B7D1B-F17C-4DC3-A626-FAA614B1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CC067-636C-446B-8DAE-27050D88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DBE9C3-171E-4F5F-86FE-F973F62A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4E2A4-4100-41FA-9FE8-C36A363F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4E14E7-ECE7-4E67-8E38-427A405B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6EF1A-D0FD-420B-A4EF-89057E70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A79E8-9A53-4237-A8E8-59C3E3BD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E0621-1CC8-4CA3-BBE5-1D36AA54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984C1-9810-47F5-A158-B917492D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17A-155D-490C-9CD5-A6889F2C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26C-B598-4F98-9344-539609F4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99A-CE3E-4547-B5D9-F506E1AB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A9C-1B26-4449-88A1-9C371694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B94-ADE5-49DA-8145-DD585B86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8BAB-BAF4-48F6-B35F-C44E3D7780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8361-56A5-4AC0-A5CD-56F488B3E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48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0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1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2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3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4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0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1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2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3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4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5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6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7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8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9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grpSp>
            <p:nvGrpSpPr>
              <p:cNvPr id="175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76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81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83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85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86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87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88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89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90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1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2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93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4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5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96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97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98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99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06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07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08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09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10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11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78B-D007-4894-A445-ACAC9FD682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FEDC-64BA-40DB-B319-A038C4296F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ru/imgres?imgurl=http://prostoinvesticii.com/wp-content/uploads/2014/11/rub12.jpg&amp;imgrefurl=http://prostoinvesticii.com/o-dengakh/istoriya-poyavleniya-i-razvitiya-rublya.html&amp;h=399&amp;w=600&amp;tbnid=h9iySHXlp-LmlM:&amp;docid=_e4kzwXhWDeF9M&amp;ei=u1-vVrebK4SQsgGM-57IBA&amp;tbm=isch&amp;ved=0ahUKEwj35Jf019bKAhUEiCwKHYy9B0k4ZBAzCBUoEjA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МИНИСТРАЦ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Красновского СЕЛЬСКОГО ПОСЕЛЕ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КАМЕНСКОГО РАЙОНА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280" y="5516640"/>
            <a:ext cx="860436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ИСПОЛНЕНИЕ БЮДЖЕТА Красновского СЕЛЬСКОГО ПОСЕЛЕНИЯ</a:t>
            </a:r>
            <a:br>
              <a:rPr sz="2400"/>
            </a:br>
            <a:r>
              <a:rPr b="0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КАМЕНСКОГО РАЙОНА  </a:t>
            </a:r>
            <a:br>
              <a:rPr sz="2400"/>
            </a:br>
            <a:r>
              <a:rPr b="0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на 2020го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00" name="Picture 12" descr="Картинки по запросу деньги в рублях рисун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413000"/>
            <a:ext cx="8064720" cy="41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Динамика расходов бюджета Красновского сельского поселе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2" name="Object 10"/>
          <p:cNvGraphicFramePr/>
          <p:nvPr/>
        </p:nvGraphicFramePr>
        <p:xfrm>
          <a:off x="1041480" y="1671480"/>
          <a:ext cx="7962840" cy="41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1671480"/>
                    <a:ext cx="796284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6200" y="686880"/>
            <a:ext cx="815364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Запланированный объем расходов исполнения бюджета Красновского сельского поселения в 2020 году составил 15398,3 тыс.рублей, из них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00040" y="1643040"/>
          <a:ext cx="8461440" cy="4786200"/>
        </p:xfrm>
        <a:graphic>
          <a:graphicData uri="http://schemas.openxmlformats.org/drawingml/2006/table">
            <a:tbl>
              <a:tblPr/>
              <a:tblGrid>
                <a:gridCol w="846144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 – 6508,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 – 2081,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 – 2887,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 – 4120,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 – 231,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 – 85,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 – 0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 – 24,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 – 0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wedg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Структура расходов бюджета Красновского сельского поселения в 2020 год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7" name="Object 7"/>
          <p:cNvGraphicFramePr/>
          <p:nvPr/>
        </p:nvGraphicFramePr>
        <p:xfrm>
          <a:off x="509760" y="1266840"/>
          <a:ext cx="7962840" cy="48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66840"/>
                    <a:ext cx="796284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600" spc="-1" strike="noStrike">
                <a:solidFill>
                  <a:srgbClr val="ccecff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</a:t>
            </a:r>
            <a:br>
              <a:rPr sz="2600"/>
            </a:br>
            <a:r>
              <a:rPr b="0" lang="ru-RU" sz="2600" spc="-1" strike="noStrike">
                <a:solidFill>
                  <a:srgbClr val="ccecff"/>
                </a:solidFill>
                <a:latin typeface="Times New Roman"/>
              </a:rPr>
              <a:t> в 2020 году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24000" y="1844640"/>
          <a:ext cx="8640720" cy="4378320"/>
        </p:xfrm>
        <a:graphic>
          <a:graphicData uri="http://schemas.openxmlformats.org/drawingml/2006/table">
            <a:tbl>
              <a:tblPr/>
              <a:tblGrid>
                <a:gridCol w="6122880"/>
                <a:gridCol w="2517840"/>
              </a:tblGrid>
              <a:tr h="65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,8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Муниципальная полити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Участие в предупреждении и ликвидации последствий чс в границах поселения; обеспечение пожарной безопасности и безопасности людей на водных объектах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Комплексное развитие систем коммунальной инфраструктуры Красновского сельского посел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,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Благоустройство территории Красновского сельского посел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,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Обеспечение общественного порядка и противодействие коррупци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wedg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Динамика расходов бюджета Красновского сельского поселения на культуру, кинематографию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2" name="Object 9" descr=""/>
          <p:cNvPicPr/>
          <p:nvPr/>
        </p:nvPicPr>
        <p:blipFill>
          <a:blip r:embed="rId1"/>
          <a:stretch/>
        </p:blipFill>
        <p:spPr>
          <a:xfrm>
            <a:off x="900000" y="1335240"/>
            <a:ext cx="6981840" cy="54864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Культура и кинематография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611280" y="1197000"/>
          <a:ext cx="7848360" cy="4824360"/>
        </p:xfrm>
        <a:graphic>
          <a:graphicData uri="http://schemas.openxmlformats.org/drawingml/2006/table">
            <a:tbl>
              <a:tblPr/>
              <a:tblGrid>
                <a:gridCol w="2573280"/>
                <a:gridCol w="2752560"/>
                <a:gridCol w="2522520"/>
              </a:tblGrid>
              <a:tr h="48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25370"/>
                          </a:solidFill>
                          <a:latin typeface="Times New Roman"/>
                        </a:rPr>
                        <a:t>Общий объем запланированных расходов бюджета на культуру, кинематографию в 2020 году составил 4120,1 тыс.рублей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25370"/>
                          </a:solidFill>
                          <a:latin typeface="Times New Roman"/>
                        </a:rPr>
                        <a:t>Расходы запланированные на финансовое обеспечение выполнение муниципального задания бюджетными учреждениями культуры в 2020 году составили 4120,1тыс.рубл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25370"/>
                          </a:solidFill>
                          <a:latin typeface="Times New Roman"/>
                        </a:rPr>
                        <a:t>Расходы запланированные на энергосбережение и повышение энергетической эффективности 2020году составили 671,8тыс.рубл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wedge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Динамика расходов бюджета Красновского сельского поселения на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физическую культуру и спор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6" name="Object 8"/>
          <p:cNvGraphicFramePr/>
          <p:nvPr/>
        </p:nvGraphicFramePr>
        <p:xfrm>
          <a:off x="1487520" y="1959120"/>
          <a:ext cx="6134040" cy="382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7520" y="1959120"/>
                    <a:ext cx="613404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01216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Бюджет Красновского сельского поселения на 2020 год сформирован  на основе стратегических целей и задач, определенных Бюджетным посланием Президента Российской Федерации, основных направлений бюджетной и налоговой политики Красновского сельского поселения на 2020-2022годы, с учетом прогноза социально-экономического развития Красновского сельского поселения на 2020-2022 годы. Главной идеологией бюджетной политики традиционно остается улучшение условий жизни и самочувствия населения Красновского сельского поселения, выполнение социальных обязательств перед гражданами, предоставление качественных муниципальных услуг на основе целей и задач, определенных указами Президента Российской Федерации и Стратегией социально-экономического развития Красновского сельского поселения на период до 2024 года</a:t>
            </a:r>
            <a:r>
              <a:rPr b="0" lang="ru-RU" sz="1600" spc="-1" strike="noStrike">
                <a:solidFill>
                  <a:srgbClr val="00cc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2627280" cy="19162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Oval 40"/>
          <p:cNvSpPr/>
          <p:nvPr/>
        </p:nvSpPr>
        <p:spPr>
          <a:xfrm>
            <a:off x="2771640" y="1628640"/>
            <a:ext cx="3097440" cy="266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 формирования бюджета Красновского сельского поселения на 2020 год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AutoShape 45"/>
          <p:cNvSpPr/>
          <p:nvPr/>
        </p:nvSpPr>
        <p:spPr>
          <a:xfrm>
            <a:off x="611280" y="189000"/>
            <a:ext cx="3097080" cy="1655640"/>
          </a:xfrm>
          <a:prstGeom prst="flowChartAlternateProcess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ные направления бюджетной и налоговой политики Красновского сельского поселения на 2020-2022годы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AutoShape 47"/>
          <p:cNvSpPr/>
          <p:nvPr/>
        </p:nvSpPr>
        <p:spPr>
          <a:xfrm>
            <a:off x="468360" y="3645000"/>
            <a:ext cx="2016000" cy="2305080"/>
          </a:xfrm>
          <a:prstGeom prst="flowChartAlternateProcess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ноз социально-экономического развития Красновского сельского поселения на 2020-2022годы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AutoShape 48"/>
          <p:cNvSpPr/>
          <p:nvPr/>
        </p:nvSpPr>
        <p:spPr>
          <a:xfrm>
            <a:off x="6659640" y="1916280"/>
            <a:ext cx="2198520" cy="2376360"/>
          </a:xfrm>
          <a:prstGeom prst="flowChartAlternateProcess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ые программы Красновского сельского поселения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6" name="AutoShape 51"/>
          <p:cNvSpPr/>
          <p:nvPr/>
        </p:nvSpPr>
        <p:spPr>
          <a:xfrm>
            <a:off x="2484360" y="4076640"/>
            <a:ext cx="1295640" cy="79236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7" name="AutoShape 57"/>
          <p:cNvSpPr/>
          <p:nvPr/>
        </p:nvSpPr>
        <p:spPr>
          <a:xfrm>
            <a:off x="3780000" y="404640"/>
            <a:ext cx="1009440" cy="1295640"/>
          </a:xfrm>
          <a:custGeom>
            <a:avLst/>
            <a:gdLst>
              <a:gd name="textAreaLeft" fmla="*/ 135000 w 1009440"/>
              <a:gd name="textAreaRight" fmla="*/ 874440 w 100944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AutoShape 64"/>
          <p:cNvSpPr/>
          <p:nvPr/>
        </p:nvSpPr>
        <p:spPr>
          <a:xfrm rot="5400000">
            <a:off x="5459760" y="3548880"/>
            <a:ext cx="806760" cy="1430280"/>
          </a:xfrm>
          <a:custGeom>
            <a:avLst/>
            <a:gdLst>
              <a:gd name="textAreaLeft" fmla="*/ 108000 w 806760"/>
              <a:gd name="textAreaRight" fmla="*/ 698760 w 806760"/>
              <a:gd name="textAreaTop" fmla="*/ 250200 h 1430280"/>
              <a:gd name="textAreaBottom" fmla="*/ 1037160 h 14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Исполнение бюджета Красновского сельского поселения на 2020 год направлен на выполнение следующих задач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214200" y="1643040"/>
            <a:ext cx="8642520" cy="86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устойчивости и сбалансированности бюджетной системы 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ях гарантированного исполнения действующих и принимаемы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ходных обязательст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214200" y="2643120"/>
            <a:ext cx="8713800" cy="7146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бюджетной политики, в том числе за счет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а эффективности бюджетных расходо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214200" y="4286160"/>
            <a:ext cx="871380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роли бюджетной политики для поддержки экономического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а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214200" y="350028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9393b5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финансовых возможностей Красновского сельского поселения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м направлениям развития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214200" y="5715000"/>
            <a:ext cx="8713800" cy="857160"/>
          </a:xfrm>
          <a:prstGeom prst="roundRect">
            <a:avLst>
              <a:gd name="adj" fmla="val 16667"/>
            </a:avLst>
          </a:prstGeom>
          <a:solidFill>
            <a:srgbClr val="64646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задач по сохранению и достижению позитивных результатов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Красновского сельского поселения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214200" y="5072040"/>
            <a:ext cx="8713800" cy="5000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озрачности и открытости бюджетного процесса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Основные параметры бюджета Красновского сельского поселения на 2020 год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55640" y="1628640"/>
          <a:ext cx="7921800" cy="4518000"/>
        </p:xfrm>
        <a:graphic>
          <a:graphicData uri="http://schemas.openxmlformats.org/drawingml/2006/table">
            <a:tbl>
              <a:tblPr/>
              <a:tblGrid>
                <a:gridCol w="4065480"/>
                <a:gridCol w="3856320"/>
              </a:tblGrid>
              <a:tr h="60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 (тыс.рублей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0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а, все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48,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10,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17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37,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1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бюджета, все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38,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6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ицит (-), профицит(+) бюджет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9,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p:transition>
    <p:wedg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Динамика доходов бюджета Красновского сельского поселе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9" name="Object 9" descr=""/>
          <p:cNvPicPr/>
          <p:nvPr/>
        </p:nvPicPr>
        <p:blipFill>
          <a:blip r:embed="rId1"/>
          <a:stretch/>
        </p:blipFill>
        <p:spPr>
          <a:xfrm>
            <a:off x="806400" y="2028960"/>
            <a:ext cx="7864560" cy="318456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Динамика налоговых и неналоговых доходов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бюджета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 Красновского сельского поселе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Object 10"/>
          <p:cNvGraphicFramePr/>
          <p:nvPr/>
        </p:nvGraphicFramePr>
        <p:xfrm>
          <a:off x="741240" y="1494000"/>
          <a:ext cx="782316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1494000"/>
                    <a:ext cx="782316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Запланированный объем налоговых и неналоговых доходов исполнения бюджета Красновского сельского поселения на 2020  год составил 3410,7 тыс.рублей из них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500040" y="1785960"/>
          <a:ext cx="8207280" cy="3370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Налоги на прибыль, доходы</a:t>
                      </a:r>
                      <a:r>
                        <a:rPr b="0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– 706,5 тыс.рубл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r>
                        <a:rPr b="0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–237,8 тыс.рубл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Государственная пошлина</a:t>
                      </a:r>
                      <a:r>
                        <a:rPr b="0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– 9,4 тыс.рубл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Налоги на имущество</a:t>
                      </a:r>
                      <a:r>
                        <a:rPr b="0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– 2388,6  тыс.рубл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r>
                        <a:rPr b="0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– 0,0 тыс.рубл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Доходы от использования имущества </a:t>
                      </a:r>
                      <a:r>
                        <a:rPr b="0" lang="ru-RU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– 63,3 тыс.рубл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wedg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Структура налоговых и неналоговых доходов бюджета Красновского сельского поселения в 2020 год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6" name="Object 5" descr=""/>
          <p:cNvPicPr/>
          <p:nvPr/>
        </p:nvPicPr>
        <p:blipFill>
          <a:blip r:embed="rId1"/>
          <a:stretch/>
        </p:blipFill>
        <p:spPr>
          <a:xfrm>
            <a:off x="465120" y="1843200"/>
            <a:ext cx="8447040" cy="5994360"/>
          </a:xfrm>
          <a:prstGeom prst="rect">
            <a:avLst/>
          </a:prstGeom>
          <a:ln w="0">
            <a:noFill/>
          </a:ln>
        </p:spPr>
      </p:pic>
      <p:pic>
        <p:nvPicPr>
          <p:cNvPr id="327" name="Object 4" descr=""/>
          <p:cNvPicPr/>
          <p:nvPr/>
        </p:nvPicPr>
        <p:blipFill>
          <a:blip r:embed="rId2"/>
          <a:stretch/>
        </p:blipFill>
        <p:spPr>
          <a:xfrm>
            <a:off x="474840" y="1562040"/>
            <a:ext cx="8564400" cy="4653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Динамика безвозмездных поступлений бюджета Красновского сельского поселе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9" name="Object 7"/>
          <p:cNvGraphicFramePr/>
          <p:nvPr/>
        </p:nvGraphicFramePr>
        <p:xfrm>
          <a:off x="403200" y="1554120"/>
          <a:ext cx="85806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1554120"/>
                    <a:ext cx="8580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1:33:22Z</dcterms:created>
  <dc:creator>1</dc:creator>
  <dc:description/>
  <dc:language>en-US</dc:language>
  <cp:lastModifiedBy>Пользователь</cp:lastModifiedBy>
  <cp:lastPrinted>2019-02-19T13:45:41Z</cp:lastPrinted>
  <dcterms:modified xsi:type="dcterms:W3CDTF">2023-01-26T05:51:33Z</dcterms:modified>
  <cp:revision>282</cp:revision>
  <dc:subject/>
  <dc:title>Финансовое управление Администрации Каменского района</dc:title>
</cp:coreProperties>
</file>